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49C8-B048-4C18-87D0-36A566561889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Aspergers quote: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Susan Stokes </a:t>
            </a: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“Children with Asperger's Syndrome typically exhibit strengths in their visual processing skills, with significant weaknesses in their ability to process information auditorill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BE09-2FA4-46AB-A2F6-056C90E27F06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N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C2EE-D34C-4960-9A74-C463E27D8CC3}" type="slidenum">
              <a:rPr b="0" lang="en-N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0C20-F8EB-4E37-B2A6-A14946DA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E677-8316-474D-92D2-96807A1A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4DF-8C4B-4007-8097-C1DB83C8F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6176-3F71-4F8B-8E90-97B105E2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821C-7CE2-4C4A-8F70-7893EBFB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F74E-E36B-4376-A339-DBBBD925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2694-7DD0-42A6-8480-772EB74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7CF4-9B56-40FE-9AAC-A96652EA5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5025-2E05-4D19-BF6D-4D46FCB3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2B04-D0C1-4C02-9C20-158FB44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AE94-2247-488B-B1E0-84D74AB7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71E-DB0A-4F41-A165-48F162E7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3DBD-CAF8-4623-843B-13CDE7A74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languageperfect.co.nz/" TargetMode="Externa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lear heart"/>
          <p:cNvPicPr/>
          <p:nvPr/>
        </p:nvPicPr>
        <p:blipFill>
          <a:blip r:embed="rId1"/>
          <a:srcRect l="32142" t="38573" r="20713" b="1857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85840" y="3571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E-learning of Languages at Otaki College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1800" y="6143760"/>
            <a:ext cx="50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Gillian Gordon TIC Japa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Chart 2" descr=""/>
          <p:cNvPicPr/>
          <p:nvPr/>
        </p:nvPicPr>
        <p:blipFill>
          <a:blip r:embed="rId1"/>
          <a:stretch/>
        </p:blipFill>
        <p:spPr>
          <a:xfrm>
            <a:off x="571680" y="500040"/>
            <a:ext cx="8001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1439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285840" y="57168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In-depth interview of 10 students (a cross section of survey group)</a:t>
            </a:r>
            <a:r>
              <a:rPr b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asking them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"/>
          <p:cNvSpPr/>
          <p:nvPr/>
        </p:nvSpPr>
        <p:spPr>
          <a:xfrm>
            <a:off x="714240" y="1857240"/>
            <a:ext cx="75726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call and rank e-learning tools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o explain ‘how’ e-learning tools hel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o assess own shift engagement &amp; moti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o evaluate e-tools against traditiona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500040" y="4786200"/>
            <a:ext cx="64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Pre and Post Hiragana Recognition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1571760" y="5643720"/>
            <a:ext cx="70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i="1" lang="en-NZ" sz="1800" spc="-1" strike="noStrike">
                <a:solidFill>
                  <a:srgbClr val="0000ff"/>
                </a:solidFill>
                <a:latin typeface="Arial"/>
              </a:rPr>
              <a:t>Informal  classroom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Chart 6" descr=""/>
          <p:cNvPicPr/>
          <p:nvPr/>
        </p:nvPicPr>
        <p:blipFill>
          <a:blip r:embed="rId1"/>
          <a:stretch/>
        </p:blipFill>
        <p:spPr>
          <a:xfrm>
            <a:off x="1619280" y="476280"/>
            <a:ext cx="5977080" cy="3529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3481920"/>
            <a:ext cx="874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pre-tested Hiragana recognition in term 2 week 10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tudents did not do Hiragana recognition practice in term thre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 re-tested Hiragana recognition after only 2-3 lessons using Language Perfect website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8" descr=""/>
          <p:cNvPicPr/>
          <p:nvPr/>
        </p:nvPicPr>
        <p:blipFill>
          <a:blip r:embed="rId1"/>
          <a:stretch/>
        </p:blipFill>
        <p:spPr>
          <a:xfrm>
            <a:off x="1403280" y="692280"/>
            <a:ext cx="6337440" cy="4105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4360" y="4941720"/>
            <a:ext cx="7632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 of 12 of NZ European students showed improvement in post-t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9 of 12 of NZ European showed no chang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2 of 14, Maori/Pasifika (P.I.) students showed no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Maori/P.I. student improved, and 1 gained a slightly lower sc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hart 1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072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hart 9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ext Box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6480" y="36360"/>
            <a:ext cx="9156960" cy="72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VTS_01_1_WMV V9.wmv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80960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4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VTS_02_1_WMV V9.wmv" descr=""/>
          <p:cNvPicPr/>
          <p:nvPr/>
        </p:nvPicPr>
        <p:blipFill>
          <a:blip r:embed="rId1"/>
          <a:stretch/>
        </p:blipFill>
        <p:spPr>
          <a:xfrm>
            <a:off x="500040" y="500040"/>
            <a:ext cx="792972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quadview"/>
          <p:cNvPicPr/>
          <p:nvPr/>
        </p:nvPicPr>
        <p:blipFill>
          <a:blip r:embed="rId1"/>
          <a:stretch/>
        </p:blipFill>
        <p:spPr>
          <a:xfrm>
            <a:off x="900000" y="333360"/>
            <a:ext cx="3457800" cy="242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cienceroom"/>
          <p:cNvPicPr/>
          <p:nvPr/>
        </p:nvPicPr>
        <p:blipFill>
          <a:blip r:embed="rId2"/>
          <a:stretch/>
        </p:blipFill>
        <p:spPr>
          <a:xfrm>
            <a:off x="4929120" y="357120"/>
            <a:ext cx="3457800" cy="2419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kapahaka1"/>
          <p:cNvPicPr/>
          <p:nvPr/>
        </p:nvPicPr>
        <p:blipFill>
          <a:blip r:embed="rId3"/>
          <a:stretch/>
        </p:blipFill>
        <p:spPr>
          <a:xfrm>
            <a:off x="928800" y="3500280"/>
            <a:ext cx="3436920" cy="2406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gamesteam1"/>
          <p:cNvPicPr/>
          <p:nvPr/>
        </p:nvPicPr>
        <p:blipFill>
          <a:blip r:embed="rId4"/>
          <a:stretch/>
        </p:blipFill>
        <p:spPr>
          <a:xfrm>
            <a:off x="4919760" y="3500280"/>
            <a:ext cx="3436920" cy="2406960"/>
          </a:xfrm>
          <a:prstGeom prst="rect">
            <a:avLst/>
          </a:prstGeom>
          <a:ln w="0">
            <a:noFill/>
          </a:ln>
        </p:spPr>
      </p:pic>
      <p:sp>
        <p:nvSpPr>
          <p:cNvPr id="56" name="TextBox 6"/>
          <p:cNvSpPr/>
          <p:nvPr/>
        </p:nvSpPr>
        <p:spPr>
          <a:xfrm>
            <a:off x="642960" y="292896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taki College is a rural decile 4 year 7-13 composite school with 510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7"/>
          <p:cNvSpPr/>
          <p:nvPr/>
        </p:nvSpPr>
        <p:spPr>
          <a:xfrm>
            <a:off x="928800" y="6072120"/>
            <a:ext cx="742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1% Maori students, 44% NZ European, 4% Pasifika, 16% Asi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% other European (MoE Ethnicity data, November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VTS_03_1_WMV V9.wmv" descr=""/>
          <p:cNvPicPr/>
          <p:nvPr/>
        </p:nvPicPr>
        <p:blipFill>
          <a:blip r:embed="rId1"/>
          <a:stretch/>
        </p:blipFill>
        <p:spPr>
          <a:xfrm>
            <a:off x="642960" y="571680"/>
            <a:ext cx="7715160" cy="57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6" dur="1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VTS_04_1_WMV V9.wmv" descr=""/>
          <p:cNvPicPr/>
          <p:nvPr/>
        </p:nvPicPr>
        <p:blipFill>
          <a:blip r:embed="rId1"/>
          <a:stretch/>
        </p:blipFill>
        <p:spPr>
          <a:xfrm>
            <a:off x="857160" y="50004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0" y="57168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Voki appeal to both gend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Voki – Al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Voki – 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Voki- Gra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s you can appreciate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214200" y="214200"/>
            <a:ext cx="87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Student comments on e-tools us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85840" y="56577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Aspergers student’s view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I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learn more with ICT styl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It’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addictive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verbal and visual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t the same time. It i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not just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ne of those things you can only do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at school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85840" y="421488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E-learning vs Traditional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I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learn more with a pen and paper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. Computers are too much fun, so you won’t learn anything”, “you end up playing games on computer”, “you learn more with pen and paper,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ICT makes it more fu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85840" y="264312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Interactive websites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ere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faster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…I did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things I was interested in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, not what the rest of the class was doing”, “it’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teaching ourselves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, “it’s self-correcting…you can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challenge yourself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, not being held back by others…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teacher doesn’t have time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o correct little things e.g. spelling etc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357120" y="1428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c00000"/>
                </a:solidFill>
                <a:latin typeface="Arial"/>
              </a:rPr>
              <a:t>Video making: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helped people put sentences together better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…to make sense. It’s </a:t>
            </a:r>
            <a:r>
              <a:rPr b="0" lang="en-NZ" sz="1800" spc="-1" strike="noStrike">
                <a:solidFill>
                  <a:srgbClr val="0000ff"/>
                </a:solidFill>
                <a:latin typeface="Arial"/>
              </a:rPr>
              <a:t>more fun so… more involved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”, “…fun like doing a pla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357120" y="28584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Constra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57120" y="614376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5. Students perception as a barrier to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357120" y="542916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. Need to up-skill in use of I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357120" y="4714920"/>
            <a:ext cx="84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. Lack of contac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357120" y="1857240"/>
            <a:ext cx="842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. Workload:       Curriculum Leader responsibilitie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357120" y="114300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. Computer and internet access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2286000" y="4214880"/>
            <a:ext cx="628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Extra-curricular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9"/>
          <p:cNvSpPr/>
          <p:nvPr/>
        </p:nvSpPr>
        <p:spPr>
          <a:xfrm>
            <a:off x="2286000" y="3786120"/>
            <a:ext cx="55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Other PD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0"/>
          <p:cNvSpPr/>
          <p:nvPr/>
        </p:nvSpPr>
        <p:spPr>
          <a:xfrm>
            <a:off x="2214720" y="3429000"/>
            <a:ext cx="65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cheme re-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1"/>
          <p:cNvSpPr/>
          <p:nvPr/>
        </p:nvSpPr>
        <p:spPr>
          <a:xfrm>
            <a:off x="2286000" y="307188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reparation for introduction of NZC from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2286000" y="2643120"/>
            <a:ext cx="650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Playground supervision &amp; Form teacher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2214720" y="22860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umber of classes and range of levels ta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28760" y="4287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Conclus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428760" y="54291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combination of traditional teaching methods and e-learning is best practice in 2LL cla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28760" y="442908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-learning occurs most effectively where physical ICT resourcing and access is adequ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428760" y="321480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college Maori, lower ability, male and students with learning difficulties, gained most in increased engagement and motivation through use of e-learning tools in the 2LL classro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428760" y="221472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ing students’ individual differences must inform effective teaching practice. (NZC 2007, p35) (Ellis,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28760" y="1214280"/>
            <a:ext cx="828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t is essential that teachers are adequately supported with time, specialist support, and incentive to up-skill in delivery of e-lear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"/>
          <p:cNvSpPr/>
          <p:nvPr/>
        </p:nvSpPr>
        <p:spPr>
          <a:xfrm>
            <a:off x="285840" y="214200"/>
            <a:ext cx="85723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Where to from here?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I inten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285840" y="592920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im for a balanced approach using both Traditional &amp; E-Learn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285840" y="5286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search methods for improving outcomes for Maori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285840" y="421488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Apply Sarah Pavy’s recommendations to increase motivation, retention and success for male students in 2LL (Pavy, 2006 Article: “Boys Learning Languages” The NZ Language Teacher-Vol 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357120" y="357192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ntinue to up-skill in use of E-Learning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285840" y="2714760"/>
            <a:ext cx="857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rvey students to inform my teaching as part of a cyclical inquiry approach (NZC, 2007, p 3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285840" y="1857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Integrate E-Learning into my teaching practice &amp; schemes at all levels (already  in progress for year 9 &amp; 10 in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785880" y="285840"/>
            <a:ext cx="75009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In my opinion</a:t>
            </a:r>
            <a:r>
              <a:rPr b="1" lang="en-GB" sz="4000" spc="-1" strike="noStrike">
                <a:solidFill>
                  <a:srgbClr val="0000ff"/>
                </a:solidFill>
                <a:latin typeface="Arial"/>
              </a:rPr>
              <a:t> the value of e-learning for 2LL acquisition cannot be over-emphasised!!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1152360" y="3224160"/>
            <a:ext cx="72154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57160" y="2869920"/>
            <a:ext cx="7715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ecta ICT Research article “What the research says about using iCT in modern foreign languages (MFL)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partners.becta.org.uk/upload-/downloads/page_documents/research/wtrs_mfl.p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2"/>
          <p:cNvSpPr/>
          <p:nvPr/>
        </p:nvSpPr>
        <p:spPr>
          <a:xfrm>
            <a:off x="642960" y="642960"/>
            <a:ext cx="792972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Thank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inistry of Education for funding the ELL research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taki College for releasing me to take part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Noeline Grant Advisor (and Catherine Hannagan) for their unflagging optimism and encour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ellow Language Teachers from the Wellington region who participated in the ELL project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My Family who have supported me through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Chart 2" descr=""/>
          <p:cNvPicPr/>
          <p:nvPr/>
        </p:nvPicPr>
        <p:blipFill>
          <a:blip r:embed="rId1"/>
          <a:stretch/>
        </p:blipFill>
        <p:spPr>
          <a:xfrm>
            <a:off x="428760" y="500040"/>
            <a:ext cx="8286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art 3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807228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571680" y="357120"/>
            <a:ext cx="7929360" cy="15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My Inquiry Topi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mproving student engagement and motivation through the use of E-Learn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857160" y="2000160"/>
            <a:ext cx="55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Why  motivation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642960" y="2428920"/>
            <a:ext cx="785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Gardner says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“…motivation is a central elemen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long with language aptitude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in determining success in learning another language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in the classroom setting” (Gardner, R.C. (200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1143000" y="4071960"/>
            <a:ext cx="728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 New Zealand Curriculum, states: “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e-learning…ha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 considerable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potential to suppor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 teaching approaches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utlined…” (NZC, 2007 p3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714240" y="5286240"/>
            <a:ext cx="7358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nd “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e-learning may: assist 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he making of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connections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; facilitate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shared learning</a:t>
            </a:r>
            <a:r>
              <a:rPr b="0" i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; assist in the creation of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supportive learning environments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; enhance </a:t>
            </a:r>
            <a:r>
              <a:rPr b="0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opportunities to learn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”</a:t>
            </a: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 (NZC, 2007, p 3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642960" y="3500280"/>
            <a:ext cx="69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NZ" sz="2400" spc="-1" strike="noStrike">
                <a:solidFill>
                  <a:srgbClr val="000000"/>
                </a:solidFill>
                <a:latin typeface="Arial"/>
              </a:rPr>
              <a:t>Why E-Learning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571680" y="2500200"/>
            <a:ext cx="76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Why year 9 classes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714240" y="3429000"/>
            <a:ext cx="7715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Data from larger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642960" y="500040"/>
            <a:ext cx="79297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My Inquiry Topic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Improving student engagement and motivation through the use of E-Learning”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8"/>
          <p:cNvSpPr/>
          <p:nvPr/>
        </p:nvSpPr>
        <p:spPr>
          <a:xfrm flipH="1">
            <a:off x="3714120" y="5214960"/>
            <a:ext cx="45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etermination on m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785880" y="428616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Particularly challenging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c00000"/>
                </a:solidFill>
                <a:latin typeface="Arial"/>
              </a:rPr>
              <a:t>Metho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"/>
          <p:cNvSpPr/>
          <p:nvPr/>
        </p:nvSpPr>
        <p:spPr>
          <a:xfrm>
            <a:off x="285840" y="642960"/>
            <a:ext cx="78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0000ff"/>
                </a:solidFill>
                <a:latin typeface="Arial"/>
                <a:ea typeface="Arial"/>
              </a:rPr>
              <a:t>Pre- and Post-survey of students assessing shift 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14240" y="1000080"/>
            <a:ext cx="7858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ttitudes towards learning Japanese (motivation &amp; eng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ttitudes towards e-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Access to Internet at 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1928880" y="2928960"/>
            <a:ext cx="52862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Chart 2" descr=""/>
          <p:cNvPicPr/>
          <p:nvPr/>
        </p:nvPicPr>
        <p:blipFill>
          <a:blip r:embed="rId1"/>
          <a:stretch/>
        </p:blipFill>
        <p:spPr>
          <a:xfrm>
            <a:off x="500040" y="357120"/>
            <a:ext cx="82152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Chart 5" descr=""/>
          <p:cNvPicPr/>
          <p:nvPr/>
        </p:nvPicPr>
        <p:blipFill>
          <a:blip r:embed="rId1"/>
          <a:stretch/>
        </p:blipFill>
        <p:spPr>
          <a:xfrm>
            <a:off x="500040" y="428760"/>
            <a:ext cx="80726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9T20:48:54Z</dcterms:created>
  <dc:creator>-</dc:creator>
  <dc:description/>
  <dc:language>en-US</dc:language>
  <cp:lastModifiedBy>-</cp:lastModifiedBy>
  <dcterms:modified xsi:type="dcterms:W3CDTF">2009-12-10T03:20:21Z</dcterms:modified>
  <cp:revision>72</cp:revision>
  <dc:subject/>
  <dc:title>Slide 1</dc:title>
</cp:coreProperties>
</file>